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9CE-3C98-4151-86D4-9241CAAE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D54-EE40-4848-BD7D-8EE4DC11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28D-72FF-47B1-A059-DB9393D2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20C-483F-41D2-94E3-95169221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798-6B68-4B5E-8D4A-060D6532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FB6-CBEC-4EE1-9971-89BBB4CA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9C1-F496-4D86-AAE8-6FD5393E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F92-F3E4-4F24-8BE3-E53885EF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708-9F65-4AEC-8BA7-C081159C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EF4-DE62-4AAC-AD9A-6E99111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A68-A29E-47C1-A41B-F3FBE036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3C6-95BD-436B-987F-DEF8AA3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139-669B-4F01-9593-5F59906FD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Sensitivity of CNGS*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om P. Miggliozi at NuFact ‘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91040" y="5791320"/>
            <a:ext cx="429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*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ＭＳ Ｐゴシック"/>
              </a:rPr>
              <a:t>OPERA Electron identification and energy measuremen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295280"/>
            <a:ext cx="8839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thod based on shower identification and on MCS of the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e/</a:t>
            </a: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 ratio is measured with Cerenkov and ECC (test b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1.42±0.17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1.46±0.11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2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0.41±0.05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0.32±0.03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4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 baseline="-25000">
                <a:solidFill>
                  <a:srgbClr val="063de8"/>
                </a:solidFill>
                <a:latin typeface="Comic Sans MS"/>
              </a:rPr>
              <a:t>e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= 88 (91) % at 2 (4) GeV (in agreement with M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267080"/>
            <a:ext cx="5334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asured by counting the number of track segments into a cone along the electron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ultiple Coulomb Scattering before show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Resolution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  <a:ea typeface="Times New Roman"/>
              </a:rPr>
              <a:t>~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59280" y="3738600"/>
            <a:ext cx="3423600" cy="3121920"/>
            <a:chOff x="5759280" y="3738600"/>
            <a:chExt cx="3423600" cy="3121920"/>
          </a:xfrm>
        </p:grpSpPr>
        <p:pic>
          <p:nvPicPr>
            <p:cNvPr id="49" name="e-shower" descr=""/>
            <p:cNvPicPr/>
            <p:nvPr/>
          </p:nvPicPr>
          <p:blipFill>
            <a:blip r:embed="rId1"/>
            <a:srcRect l="4459" t="0" r="42683" b="2469"/>
            <a:stretch/>
          </p:blipFill>
          <p:spPr>
            <a:xfrm>
              <a:off x="6090480" y="3738600"/>
              <a:ext cx="2727360" cy="265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8777160" y="3880080"/>
              <a:ext cx="405720" cy="2483640"/>
              <a:chOff x="8777160" y="3880080"/>
              <a:chExt cx="405720" cy="2483640"/>
            </a:xfrm>
          </p:grpSpPr>
          <p:sp>
            <p:nvSpPr>
              <p:cNvPr id="51" name=""/>
              <p:cNvSpPr/>
              <p:nvPr/>
            </p:nvSpPr>
            <p:spPr>
              <a:xfrm>
                <a:off x="893664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141400" y="4794840"/>
                <a:ext cx="167724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X</a:t>
                </a:r>
                <a:r>
                  <a:rPr b="0" lang="en-US" sz="1800" spc="-1" strike="noStrike" baseline="-25000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0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 ( 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~ ½ bric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7153560" y="6553440"/>
              <a:ext cx="822600" cy="307080"/>
              <a:chOff x="7153560" y="6553440"/>
              <a:chExt cx="822600" cy="307080"/>
            </a:xfrm>
          </p:grpSpPr>
          <p:sp>
            <p:nvSpPr>
              <p:cNvPr id="54" name=""/>
              <p:cNvSpPr/>
              <p:nvPr/>
            </p:nvSpPr>
            <p:spPr>
              <a:xfrm>
                <a:off x="7281000" y="6576840"/>
                <a:ext cx="50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3560" y="6553440"/>
                <a:ext cx="822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Times New Roman"/>
                  </a:rPr>
                  <a:t>1 m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759280" y="3880080"/>
              <a:ext cx="368280" cy="2483640"/>
              <a:chOff x="5759280" y="3880080"/>
              <a:chExt cx="368280" cy="2483640"/>
            </a:xfrm>
          </p:grpSpPr>
          <p:sp>
            <p:nvSpPr>
              <p:cNvPr id="57" name=""/>
              <p:cNvSpPr/>
              <p:nvPr/>
            </p:nvSpPr>
            <p:spPr>
              <a:xfrm>
                <a:off x="593280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5626800" y="4836600"/>
                <a:ext cx="6332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 c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OPERA sensitivity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 </a:t>
            </a:r>
            <a:br>
              <a:rPr sz="3600"/>
            </a:b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CNGS nominal 5ans 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19320" y="1447920"/>
            <a:ext cx="4260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By fitting simultaneousl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, missing p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and 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vis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we got the sensitivity at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66000" y="2666880"/>
            <a:ext cx="4603320" cy="3581640"/>
            <a:chOff x="4266000" y="2666880"/>
            <a:chExt cx="4603320" cy="3581640"/>
          </a:xfrm>
        </p:grpSpPr>
        <p:grpSp>
          <p:nvGrpSpPr>
            <p:cNvPr id="62" name=""/>
            <p:cNvGrpSpPr/>
            <p:nvPr/>
          </p:nvGrpSpPr>
          <p:grpSpPr>
            <a:xfrm>
              <a:off x="4726080" y="2666880"/>
              <a:ext cx="4143240" cy="3581640"/>
              <a:chOff x="4726080" y="2666880"/>
              <a:chExt cx="4143240" cy="3581640"/>
            </a:xfrm>
          </p:grpSpPr>
          <p:pic>
            <p:nvPicPr>
              <p:cNvPr id="63" name="fullopera_paper" descr=""/>
              <p:cNvPicPr/>
              <p:nvPr/>
            </p:nvPicPr>
            <p:blipFill>
              <a:blip r:embed="rId1"/>
              <a:srcRect l="0" t="8780" r="7614" b="3763"/>
              <a:stretch/>
            </p:blipFill>
            <p:spPr>
              <a:xfrm>
                <a:off x="4726080" y="2666880"/>
                <a:ext cx="4143240" cy="358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280280" y="32248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c0128"/>
                    </a:solidFill>
                    <a:latin typeface="Comic Sans MS"/>
                  </a:rPr>
                  <a:t>Prelimin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7391520" y="4399560"/>
              <a:ext cx="0" cy="138024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387760" y="4399560"/>
              <a:ext cx="2003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6000" y="4263480"/>
              <a:ext cx="12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2.5x10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-3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eV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6880" y="576216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0.06 </a:t>
              </a:r>
              <a:r>
                <a:rPr b="1" lang="en-US" sz="16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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7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numunueOpera" descr=""/>
          <p:cNvPicPr/>
          <p:nvPr/>
        </p:nvPicPr>
        <p:blipFill>
          <a:blip r:embed="rId2"/>
          <a:stretch/>
        </p:blipFill>
        <p:spPr>
          <a:xfrm>
            <a:off x="0" y="2590920"/>
            <a:ext cx="4267080" cy="371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295280" y="3429000"/>
            <a:ext cx="99072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47920" y="3352680"/>
            <a:ext cx="914400" cy="1600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120" y="1295280"/>
            <a:ext cx="35179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Only 15% increase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because the even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is already performed for </a:t>
            </a:r>
            <a:r>
              <a:rPr b="0" lang="fr-FR" sz="2000" spc="-1" strike="noStrike">
                <a:solidFill>
                  <a:srgbClr val="0033cc"/>
                </a:solidFill>
                <a:latin typeface="Symbol"/>
                <a:ea typeface="Symbol"/>
              </a:rPr>
              <a:t>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search</a:t>
            </a:r>
            <a:r>
              <a:rPr b="0" lang="fr-FR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5960" y="6218280"/>
            <a:ext cx="71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x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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7°, Signal/Bkg OPERA 6/29, ICARUS 16/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i2comb_paper" descr=""/>
          <p:cNvPicPr/>
          <p:nvPr/>
        </p:nvPicPr>
        <p:blipFill>
          <a:blip r:embed="rId1"/>
          <a:srcRect l="0" t="3763" r="7614" b="3763"/>
          <a:stretch/>
        </p:blipFill>
        <p:spPr>
          <a:xfrm>
            <a:off x="4267080" y="1371600"/>
            <a:ext cx="44928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06840" y="3048120"/>
            <a:ext cx="130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2.5x10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-3</a:t>
            </a: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 eV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OPERA &amp; ICARU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91400" y="3544560"/>
            <a:ext cx="0" cy="242892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76640" y="3560760"/>
            <a:ext cx="1820880" cy="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560" y="6013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86000"/>
            <a:ext cx="37335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rom the ICARUS proposal, we evaluated the CNGS sensitivity to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by combining both experiments through a global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define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ICARUS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O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Le temps su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i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 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523880"/>
          <a:ext cx="8055000" cy="3117960"/>
        </p:xfrm>
        <a:graphic>
          <a:graphicData uri="http://schemas.openxmlformats.org/drawingml/2006/table">
            <a:tbl>
              <a:tblPr/>
              <a:tblGrid>
                <a:gridCol w="1892520"/>
                <a:gridCol w="955440"/>
                <a:gridCol w="1043280"/>
                <a:gridCol w="1096920"/>
                <a:gridCol w="1066680"/>
                <a:gridCol w="1000080"/>
                <a:gridCol w="1000080"/>
              </a:tblGrid>
              <a:tr h="36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HO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1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MINOS + Nu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6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 CNG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7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NGS x 1.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Low energy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4.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J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3.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43800" y="5715000"/>
            <a:ext cx="4371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dfc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1376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720" y="4724280"/>
            <a:ext cx="454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0128"/>
                </a:solidFill>
                <a:latin typeface="Comic Sans MS"/>
              </a:rPr>
              <a:t>OPERA + ICARUS 5ans &amp; CNGS*1.5 : 4.5°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HF 5ans                                          : 2.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onclusion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773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PERA has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parable to the one of the other LBL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5-0.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bining ICARUS and OPERA 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f the CNGS starts in 2006, by the time JHF will provide the first results (2009) the combined sensitivity of ICARUS and OPERA at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2.5x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eV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, si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ill be a factor 4-5 better than the CHOOZ li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If we are lucky (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just below the CHOOZ limit) the CNGS could provide the first measurement of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1:57:29Z</dcterms:created>
  <dc:creator>campagne</dc:creator>
  <dc:description/>
  <dc:language>en-US</dc:language>
  <cp:lastModifiedBy>campagne</cp:lastModifiedBy>
  <dcterms:modified xsi:type="dcterms:W3CDTF">2002-09-16T10:30:58Z</dcterms:modified>
  <cp:revision>12</cp:revision>
  <dc:subject/>
  <dc:title>OPERA sensitivity to q13</dc:title>
</cp:coreProperties>
</file>